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093C-E1CE-46ED-AF6E-A49EFDE7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046-1C84-49B4-B842-D484CC95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8E03-0E8E-4A9C-BC81-E55E4981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FE5-368C-44E1-9764-665A4FF37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3B2-59A6-46DC-B9DF-246AAC59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A22-8EFC-413A-AF78-5319D4D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B9B-83DA-4A3A-978C-921DE23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318-2F3A-450C-8489-E1BDC9D0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235-2189-4BF9-AED8-20C92C38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767-7175-4E0C-B42F-CEC7C124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06A-C1B2-4B49-B640-0E03F5D8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A76-45E0-411F-A9C5-E3644BB2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DA5-B4CA-470A-9088-DD0ABD73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73B-5D1F-44B2-935A-F8EE35E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1A3-F6C7-46C6-9FCD-3227BB0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0FE-7612-43A0-B598-AE71CE8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435-2BBB-42DF-B8D5-E3529514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going to Lond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 Ow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152280" y="5867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533520" y="58672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r. 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-152280" y="664200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llingh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London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7, 177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4"/>
          <p:cNvSpPr/>
          <p:nvPr/>
        </p:nvSpPr>
        <p:spPr>
          <a:xfrm>
            <a:off x="1143000" y="66420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or to 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o glad you have returned to Manhattan! Would you like to join me for some tea?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Just got back to New York! So ecstatic that the King’s Army has recaptured this great city. </a:t>
            </a:r>
            <a:r>
              <a:rPr b="0" lang="en-US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1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just had a very intriguing meeting  with colleagues. I hope this plan goes we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2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had tea with my au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6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I have just returned from Newport, Rhode Island with two new slaves. That was an interesting encounter at the dock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7" descr="http://www.washingtonreb.com/wp-content/uploads/2011/03/George_iii_england.jpg"/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9" descr="http://www.esquire.com/cm/esquire/images/3d/jonathan-swift-0708-lg.jpg"/>
          <p:cNvPicPr/>
          <p:nvPr/>
        </p:nvPicPr>
        <p:blipFill>
          <a:blip r:embed="rId5"/>
          <a:stretch/>
        </p:blipFill>
        <p:spPr>
          <a:xfrm>
            <a:off x="152280" y="5335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1" descr="http://www.esquire.com/cm/esquire/images/3d/jonathan-swift-0708-lg.jpg"/>
          <p:cNvPicPr/>
          <p:nvPr/>
        </p:nvPicPr>
        <p:blipFill>
          <a:blip r:embed="rId6"/>
          <a:stretch/>
        </p:blipFill>
        <p:spPr>
          <a:xfrm>
            <a:off x="2133720" y="24382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http://www.esquire.com/cm/esquire/images/3d/jonathan-swift-0708-lg.jpg"/>
          <p:cNvPicPr/>
          <p:nvPr/>
        </p:nvPicPr>
        <p:blipFill>
          <a:blip r:embed="rId7"/>
          <a:stretch/>
        </p:blipFill>
        <p:spPr>
          <a:xfrm>
            <a:off x="2133720" y="3733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http://www.esquire.com/cm/esquire/images/3d/jonathan-swift-0708-lg.jpg"/>
          <p:cNvPicPr/>
          <p:nvPr/>
        </p:nvPicPr>
        <p:blipFill>
          <a:blip r:embed="rId8"/>
          <a:stretch/>
        </p:blipFill>
        <p:spPr>
          <a:xfrm>
            <a:off x="2133720" y="44197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http://www.esquire.com/cm/esquire/images/3d/jonathan-swift-0708-lg.jpg"/>
          <p:cNvPicPr/>
          <p:nvPr/>
        </p:nvPicPr>
        <p:blipFill>
          <a:blip r:embed="rId9"/>
          <a:stretch/>
        </p:blipFill>
        <p:spPr>
          <a:xfrm>
            <a:off x="2133720" y="51055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http://www.esquire.com/cm/esquire/images/3d/jonathan-swift-0708-lg.jpg"/>
          <p:cNvPicPr/>
          <p:nvPr/>
        </p:nvPicPr>
        <p:blipFill>
          <a:blip r:embed="rId10"/>
          <a:stretch/>
        </p:blipFill>
        <p:spPr>
          <a:xfrm>
            <a:off x="2133720" y="57913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4" descr="http://www.cc.nctu.edu.tw/~sheen/el/pic/coleridge.jpg"/>
          <p:cNvPicPr/>
          <p:nvPr/>
        </p:nvPicPr>
        <p:blipFill>
          <a:blip r:embed="rId11"/>
          <a:stretch/>
        </p:blipFill>
        <p:spPr>
          <a:xfrm>
            <a:off x="685800" y="5334120"/>
            <a:ext cx="474840" cy="5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http://www.northcarolinahistory.org/images/uploaded/posts/screen_445bac4262927.jpg"/>
          <p:cNvPicPr/>
          <p:nvPr/>
        </p:nvPicPr>
        <p:blipFill>
          <a:blip r:embed="rId12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6" descr="http://www.fairfaxcounty.gov/library/images/information/people/virginians/johnSmith.jpg"/>
          <p:cNvPicPr/>
          <p:nvPr/>
        </p:nvPicPr>
        <p:blipFill>
          <a:blip r:embed="rId13"/>
          <a:stretch/>
        </p:blipFill>
        <p:spPr>
          <a:xfrm>
            <a:off x="152280" y="601992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7" descr="http://periodc-readingguide-chains.wikispaces.com/file/view/madam.jpg/116598099/madam.jpg"/>
          <p:cNvPicPr/>
          <p:nvPr/>
        </p:nvPicPr>
        <p:blipFill>
          <a:blip r:embed="rId14"/>
          <a:stretch/>
        </p:blipFill>
        <p:spPr>
          <a:xfrm>
            <a:off x="762120" y="6095880"/>
            <a:ext cx="38088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8" descr="http://www.gogmsite.net/_Media/1769_isabella_viscountess_m.jpg"/>
          <p:cNvPicPr/>
          <p:nvPr/>
        </p:nvPicPr>
        <p:blipFill>
          <a:blip r:embed="rId15"/>
          <a:stretch/>
        </p:blipFill>
        <p:spPr>
          <a:xfrm>
            <a:off x="1295280" y="6019920"/>
            <a:ext cx="38124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5" descr="http://www.northcarolinahistory.org/images/uploaded/posts/screen_445bac4262927.jpg"/>
          <p:cNvPicPr/>
          <p:nvPr/>
        </p:nvPicPr>
        <p:blipFill>
          <a:blip r:embed="rId16"/>
          <a:stretch/>
        </p:blipFill>
        <p:spPr>
          <a:xfrm>
            <a:off x="2057400" y="3124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going to Lond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 Own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lave Ow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4, 17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nhatta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ngli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roquet,  Cricket,  Fenc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oetry,  Reading,  Drinking Te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English National Anth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Romeo and Juliet,  Macbeth,  Hamle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Judge Judy, How  The British Lost The Wa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Crusoe,  Shakespeare's  Sonnet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 Wall Street, Manhattan, NY 1000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256-267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9" descr="http://www.esquire.com/cm/esquire/images/3d/jonathan-swift-0708-lg.jpg"/>
          <p:cNvPicPr/>
          <p:nvPr/>
        </p:nvPicPr>
        <p:blipFill>
          <a:blip r:embed="rId5"/>
          <a:stretch/>
        </p:blipFill>
        <p:spPr>
          <a:xfrm>
            <a:off x="152280" y="533520"/>
            <a:ext cx="1314720" cy="175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4" descr="http://www.msp.umb.edu/primarymaterials/afam/ship.jpg"/>
          <p:cNvPicPr/>
          <p:nvPr/>
        </p:nvPicPr>
        <p:blipFill>
          <a:blip r:embed="rId6"/>
          <a:stretch/>
        </p:blipFill>
        <p:spPr>
          <a:xfrm>
            <a:off x="152280" y="5334120"/>
            <a:ext cx="53496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http://s0.geograph.org.uk/photos/63/98/639887_7f422a72.jpg"/>
          <p:cNvPicPr/>
          <p:nvPr/>
        </p:nvPicPr>
        <p:blipFill>
          <a:blip r:embed="rId7"/>
          <a:stretch/>
        </p:blipFill>
        <p:spPr>
          <a:xfrm>
            <a:off x="152280" y="6019920"/>
            <a:ext cx="50328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2"/>
          <p:cNvSpPr/>
          <p:nvPr/>
        </p:nvSpPr>
        <p:spPr>
          <a:xfrm>
            <a:off x="63244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808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i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going to Lond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7" descr="http://s0.geograph.org.uk/photos/63/98/639887_7f422a72.jpg"/>
          <p:cNvPicPr/>
          <p:nvPr/>
        </p:nvPicPr>
        <p:blipFill>
          <a:blip r:embed="rId3"/>
          <a:stretch/>
        </p:blipFill>
        <p:spPr>
          <a:xfrm>
            <a:off x="2209680" y="5105520"/>
            <a:ext cx="83844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4" descr="http://www.msp.umb.edu/primarymaterials/afam/ship.jpg"/>
          <p:cNvPicPr/>
          <p:nvPr/>
        </p:nvPicPr>
        <p:blipFill>
          <a:blip r:embed="rId4"/>
          <a:stretch/>
        </p:blipFill>
        <p:spPr>
          <a:xfrm>
            <a:off x="762120" y="5181480"/>
            <a:ext cx="847440" cy="1087560"/>
          </a:xfrm>
          <a:prstGeom prst="rect">
            <a:avLst/>
          </a:prstGeom>
          <a:ln w="0">
            <a:noFill/>
          </a:ln>
        </p:spPr>
      </p:pic>
      <p:pic>
        <p:nvPicPr>
          <p:cNvPr id="171" name="ipfGTHhi2tks28hsM:" descr="http://t1.gstatic.com/images?q=tbn:ANd9GcRktNMpzXezD9Svnl6X-5N0FTZB9SERjfPnx1PjHCiI8rm_3Fv89CP21Q"/>
          <p:cNvPicPr/>
          <p:nvPr/>
        </p:nvPicPr>
        <p:blipFill>
          <a:blip r:embed="rId5"/>
          <a:stretch/>
        </p:blipFill>
        <p:spPr>
          <a:xfrm>
            <a:off x="3657600" y="5029200"/>
            <a:ext cx="88596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9" descr="http://www.esquire.com/cm/esquire/images/3d/jonathan-swift-0708-lg.jpg"/>
          <p:cNvPicPr/>
          <p:nvPr/>
        </p:nvPicPr>
        <p:blipFill>
          <a:blip r:embed="rId6"/>
          <a:stretch/>
        </p:blipFill>
        <p:spPr>
          <a:xfrm>
            <a:off x="0" y="380880"/>
            <a:ext cx="762120" cy="1016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6" descr="http://www.freewebs.com/bgmodsite/company.gif"/>
          <p:cNvPicPr/>
          <p:nvPr/>
        </p:nvPicPr>
        <p:blipFill>
          <a:blip r:embed="rId7"/>
          <a:stretch/>
        </p:blipFill>
        <p:spPr>
          <a:xfrm>
            <a:off x="2666880" y="1905120"/>
            <a:ext cx="1963800" cy="123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8" descr="http://1.bp.blogspot.com/_R-qpugR3c3Q/RuIwxQCfzQI/AAAAAAAAABQ/Pd27VN5UgH0/s320/aristocrat.jpg"/>
          <p:cNvPicPr/>
          <p:nvPr/>
        </p:nvPicPr>
        <p:blipFill>
          <a:blip r:embed="rId8"/>
          <a:stretch/>
        </p:blipFill>
        <p:spPr>
          <a:xfrm>
            <a:off x="762120" y="1828800"/>
            <a:ext cx="963360" cy="14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0" descr="http://4.bp.blogspot.com/-TQSqOUjLhRQ/Ta53EQdb0aI/AAAAAAAASU0/6qhHNEerV5o/s1600/british+flag-.jpg"/>
          <p:cNvPicPr/>
          <p:nvPr/>
        </p:nvPicPr>
        <p:blipFill>
          <a:blip r:embed="rId9"/>
          <a:stretch/>
        </p:blipFill>
        <p:spPr>
          <a:xfrm>
            <a:off x="5562720" y="1905120"/>
            <a:ext cx="1752480" cy="1292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3" descr="http://cp91279.biography.com/1120330742/1120330742_1738733155_bio-top250-johnadams-independence-102213500001.jpg?pubId=1120330742"/>
          <p:cNvPicPr/>
          <p:nvPr/>
        </p:nvPicPr>
        <p:blipFill>
          <a:blip r:embed="rId10"/>
          <a:stretch/>
        </p:blipFill>
        <p:spPr>
          <a:xfrm>
            <a:off x="685800" y="3505320"/>
            <a:ext cx="1320840" cy="99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5" descr="http://deila.dickinson.edu/theirownwords/images/author/RushB.jpg"/>
          <p:cNvPicPr/>
          <p:nvPr/>
        </p:nvPicPr>
        <p:blipFill>
          <a:blip r:embed="rId11"/>
          <a:stretch/>
        </p:blipFill>
        <p:spPr>
          <a:xfrm>
            <a:off x="3200400" y="3276720"/>
            <a:ext cx="1066680" cy="127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7" descr="http://my.wn.com/image/Henry%20Pelham%20by%20William%20Hoare.jpg"/>
          <p:cNvPicPr/>
          <p:nvPr/>
        </p:nvPicPr>
        <p:blipFill>
          <a:blip r:embed="rId12"/>
          <a:stretch/>
        </p:blipFill>
        <p:spPr>
          <a:xfrm>
            <a:off x="5791320" y="3352680"/>
            <a:ext cx="96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3:41:22Z</dcterms:modified>
  <cp:revision>36</cp:revision>
  <dc:subject/>
  <dc:title>Profile</dc:title>
</cp:coreProperties>
</file>